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7F2-5637-4F4E-AA7A-AB45EF54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99C-AC21-44F1-9AEB-DE7ECA1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610-57C6-4795-A7AD-8EDCFDBE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C9C-83F7-4246-B9CF-7403AD38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C6A-29F1-4C42-9740-499D075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E43-C857-429F-B4B4-8349FA3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8E6-7C50-4E81-8D9E-4237086C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A4A-665E-44F8-8963-9FF94FD6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D40-257F-45C8-8C00-0CAE222D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37D-1ED6-47BA-B19C-12DAAB9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843-665E-4CD1-A72B-7CB850AE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719-4410-4C47-9609-D8E60853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2CE-1A3C-463C-B1B1-36026B9A35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3760" y="117324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1844640"/>
            <a:ext cx="590544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360" y="836640"/>
            <a:ext cx="410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141840" y="2675520"/>
            <a:ext cx="2306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249228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35280" y="1844640"/>
            <a:ext cx="590544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62064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6c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151560" y="2593080"/>
            <a:ext cx="237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4c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2637000"/>
            <a:ext cx="93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16200000">
            <a:off x="2483640" y="2348640"/>
            <a:ext cx="446544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54936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4m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1626120" y="2415240"/>
            <a:ext cx="309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10m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2637000"/>
            <a:ext cx="936720" cy="20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1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55640" y="765000"/>
            <a:ext cx="6985080" cy="4321440"/>
            <a:chOff x="755640" y="765000"/>
            <a:chExt cx="6985080" cy="4321440"/>
          </a:xfrm>
        </p:grpSpPr>
        <p:grpSp>
          <p:nvGrpSpPr>
            <p:cNvPr id="55" name=""/>
            <p:cNvGrpSpPr/>
            <p:nvPr/>
          </p:nvGrpSpPr>
          <p:grpSpPr>
            <a:xfrm>
              <a:off x="755640" y="765000"/>
              <a:ext cx="6985080" cy="4321440"/>
              <a:chOff x="755640" y="765000"/>
              <a:chExt cx="6985080" cy="4321440"/>
            </a:xfrm>
          </p:grpSpPr>
          <p:sp>
            <p:nvSpPr>
              <p:cNvPr id="56" name=""/>
              <p:cNvSpPr/>
              <p:nvPr/>
            </p:nvSpPr>
            <p:spPr>
              <a:xfrm>
                <a:off x="1835280" y="1917720"/>
                <a:ext cx="5905440" cy="316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92360" y="765000"/>
                <a:ext cx="41054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Comic Sans MS"/>
                  </a:rPr>
                  <a:t>7cm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55640" y="2276640"/>
                <a:ext cx="1657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7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43280" y="2565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800" spc="-1" strike="noStrike">
                  <a:solidFill>
                    <a:srgbClr val="000000"/>
                  </a:solidFill>
                  <a:latin typeface="Comic Sans MS"/>
                </a:rPr>
                <a:t>21cm</a:t>
              </a:r>
              <a:r>
                <a:rPr b="0" lang="en-US" sz="10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55640" y="765000"/>
            <a:ext cx="6985080" cy="4321440"/>
            <a:chOff x="755640" y="765000"/>
            <a:chExt cx="6985080" cy="4321440"/>
          </a:xfrm>
        </p:grpSpPr>
        <p:grpSp>
          <p:nvGrpSpPr>
            <p:cNvPr id="61" name=""/>
            <p:cNvGrpSpPr/>
            <p:nvPr/>
          </p:nvGrpSpPr>
          <p:grpSpPr>
            <a:xfrm>
              <a:off x="755640" y="765000"/>
              <a:ext cx="6985080" cy="4321440"/>
              <a:chOff x="755640" y="765000"/>
              <a:chExt cx="6985080" cy="4321440"/>
            </a:xfrm>
          </p:grpSpPr>
          <p:sp>
            <p:nvSpPr>
              <p:cNvPr id="62" name=""/>
              <p:cNvSpPr/>
              <p:nvPr/>
            </p:nvSpPr>
            <p:spPr>
              <a:xfrm>
                <a:off x="1835280" y="1917720"/>
                <a:ext cx="5905440" cy="316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492360" y="765000"/>
                <a:ext cx="410544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Comic Sans MS"/>
                  </a:rPr>
                  <a:t>8m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5640" y="2276640"/>
                <a:ext cx="165744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700" spc="-1" strike="noStrike">
                    <a:solidFill>
                      <a:srgbClr val="000000"/>
                    </a:solidFill>
                    <a:latin typeface="Comic Sans MS"/>
                  </a:rPr>
                  <a:t>?</a:t>
                </a:r>
                <a:endParaRPr b="0" lang="en-US" sz="1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2843280" y="2565360"/>
              <a:ext cx="4321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800" spc="-1" strike="noStrike">
                  <a:solidFill>
                    <a:srgbClr val="000000"/>
                  </a:solidFill>
                  <a:latin typeface="Comic Sans MS"/>
                </a:rPr>
                <a:t>24m</a:t>
              </a:r>
              <a:r>
                <a:rPr b="0" lang="en-US" sz="10800" spc="-1" strike="noStrike" baseline="30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0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848720" cy="3894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258920" y="4653000"/>
            <a:ext cx="5473800" cy="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8360" y="2133720"/>
            <a:ext cx="0" cy="237492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4581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909200" y="30405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116000" y="476280"/>
            <a:ext cx="6989760" cy="5276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76360" y="4941720"/>
            <a:ext cx="4608360" cy="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1628640"/>
            <a:ext cx="0" cy="2952720"/>
          </a:xfrm>
          <a:prstGeom prst="line">
            <a:avLst/>
          </a:prstGeom>
          <a:ln w="5724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55680" y="804960"/>
            <a:ext cx="323856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 rot="18913200">
            <a:off x="2981160" y="234720"/>
            <a:ext cx="288000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1T19:21:17Z</dcterms:created>
  <dc:creator>Betsan Thomas</dc:creator>
  <dc:description/>
  <dc:language>en-US</dc:language>
  <cp:lastModifiedBy>Betsan Wyn Thomas</cp:lastModifiedBy>
  <dcterms:modified xsi:type="dcterms:W3CDTF">2008-11-02T20:02:24Z</dcterms:modified>
  <cp:revision>4</cp:revision>
  <dc:subject/>
  <dc:title>Slide 1</dc:title>
</cp:coreProperties>
</file>